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3756-F88D-4824-9E7A-E988970BF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087D-492C-43D3-ADD6-3C2C8EFF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9C15-EBE5-4009-A1F5-F48C82ED7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BBD8-00DC-43F7-A240-BBB71BAEB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B6B9-8EAB-40BF-B0B9-B5F3FB20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16A0-3755-4508-BEEC-190DD781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3473-8040-44F3-9BAC-EC1B9D79C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E638-8EEF-4CD4-AAC5-BE68B83D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B4E9-5ADF-4FED-97E1-D48A1E10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4605-D57B-48FE-9C01-F4C9EEC1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6CF1-BADA-40B7-A3AC-EC57A6BC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D2EA-7910-4E31-B3C7-E2B520D3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6972-D3C6-4B92-8816-F48772261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certain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or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i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unconditio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obabil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propo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, P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true) = 0.1 and P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eath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sunny) = 0.72 correspond to belief prior to arrival of any (new) evid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robability distrib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ives values for all possible assign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eath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= &lt;0.72,0.1,0.08,0.1&gt; (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normalize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i.e., sums to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Joint probability distribu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a set of random variables gives the probability of every atomic event on those random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eather,Cav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= a 4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×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matrix of valu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at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n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i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ud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tru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4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16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fal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7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64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very question about a domain can be answered by the joint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419720"/>
            <a:ext cx="586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00400" y="4114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al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ndit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sterior prob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, 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otha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, given tha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otha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ll I k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Notation for conditional distribu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vit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otha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2-element vector of 2-element vect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we know more, e.g.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lso given, then we 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vity | toothache,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evidence may be irrelevant, allowing simplification, e.g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vity | toothache, sunn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P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vit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otha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kind of inference, sanctioned by domain knowledge, is cru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al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of conditional probabil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a | b) = P(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) / P(b) if  P(b) &gt;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roduct r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ives an alternative formul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a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) = P(a | b) P(b) = P(b | a) P(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eneral version holds for whole distributions, e.g.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ather,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ather | 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iew as a set of 4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×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equations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trix mult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hain r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derived by successive application of product ru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,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...,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=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^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 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… ,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by enum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the joint probability distrib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ny proposition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um the atomic events where it is true: P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ω╞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71800" y="2133720"/>
            <a:ext cx="365760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by enum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the joint probability distrib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ny proposition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um the atomic events where it is true: P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ω╞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othac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0.108 + 0.012 + 0.016 + 0.064 = 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971800" y="2133720"/>
            <a:ext cx="365760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by enum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the joint probability distrib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ny proposition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um the atomic events where it is true: P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ω╞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(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othac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0.108 + 0.012 + 0.016 + 0.064 = 0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971800" y="2133720"/>
            <a:ext cx="3581280" cy="14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971800" y="2133720"/>
            <a:ext cx="3657600" cy="14508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by enum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the joint probability distrib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also compute conditional probabili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othac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othac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othac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0.016+0.0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08 + 0.012 + 0.016 + 0.0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95680" y="441972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95680" y="5257800"/>
            <a:ext cx="4038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971800" y="1447920"/>
            <a:ext cx="3809880" cy="1920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rma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ominator can be viewed as 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rmalization consta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vity | toothac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α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vity,toothac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α, 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vity,toothache,cat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vity,tootha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t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[&lt;0.108,0.016&gt; + &lt;0.012,0.064&gt;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α, &lt;0.12,0.08&gt; = &lt;0.6,0.4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idea: compute distribution on query variable by fixing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vidence variab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summing over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hidden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erence by enumeration, co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ly, we are interested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osterior joint distribution of the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query variab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specific value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or the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evidence variab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the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idden variabl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he required summation of joint entries is done by summing out the hidden variab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|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= α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= α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rms in the summation are joint entries becaus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ogether exhaust the set of random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vious problem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98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st-case time complexit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(d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the largest 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98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ace complexity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(d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store the joint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-2988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find the numbers for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(d</a:t>
            </a:r>
            <a:r>
              <a:rPr b="0" i="1" lang="en-US" sz="16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rie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6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e independent i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|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  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|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    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, B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othache, Catch, Cavity, Weat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othache, Catch, 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ath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 entries reduced to 12; for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dependent biased coins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(2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(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lute independence powerful but r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tistry is a large field with hundreds of variables, none of which are independent. What to 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95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286000" y="2286000"/>
            <a:ext cx="4343400" cy="10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ertai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ax and Seman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ce and Bayes' R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al in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othache, Cavity, Cat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has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 = 7 independent e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 have a cavity, the probability that the probe catches in it doesn't depend on whether I have a toothach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tch | toothache, 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tch | 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ame independence holds if I haven't got a cavi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tch | toothache,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tch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tc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ditionally independ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othach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tch | Toothache,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tch | 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valent stat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othache | Catch, 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othache | 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othache, Catch | 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oothache | 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tch | Cav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al independence cont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out full joint distribution using chain ru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othache, Catch, Ca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othache | Catch, C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tch, C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othache | Catch, C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tch | C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othache | C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tch | C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av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, 2 + 2 + 1 = 5 independent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 most cases, the use of conditional independence reduces the size of the representation of the joint distribution from exponential in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o linear in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ditional independence is our most basic and robust form of knowledge about uncertain environ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yes'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rule P(a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 = P(a | b) P(b) = P(b | a) P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ayes' rul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(a | b) = P(b | a) P(a) / P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in distribution for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Y|X)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|Y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Y) /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) = α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X|Y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for assessing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agnosti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 from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aus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(Cause|Effect) = P(Effect|Cause) P(Cause) / P(Effec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le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meningitis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stiff nec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(m|s) = P(s|m) P(m) / P(s) = 0.8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001 / 0.1 = 0.0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posterior probability of meningitis still very small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yes' Rule and conditional independ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vity | toothache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ca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othach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catch | C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othache | C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tch | C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n example of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aïve Bay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ause,Effec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… ,Effec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=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Cause)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ffec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Cau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number of parameters i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n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76520" y="3962520"/>
            <a:ext cx="484812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ability is a rigorous formalism for uncertain 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Joint probability distrib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cifies probability of every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tomic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ies can be answered by summing over atomic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nontrivial domains, we must find a way to reduce the joint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depende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ditional independ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vide the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certain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t action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leave for airport 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inutes before fl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ll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et me there on tim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al observability (road state, other drivers' plan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isy sensors (traffic report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certainty in action outcomes (flat tire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mense complexity of modeling and predic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nce a purely logical approach ei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ks falsehood: “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ill get me there on time”, 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ds to conclusions that are too weak for decision mak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will get me there on time if there's no accident on the bridge and it doesn't rain and my tires remain intact etc etc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144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ight reasonably be said to get me there on time but I'd have to stay overnight in the airport 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s for handling uncertain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efaul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onmonoto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ogic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my car does not have a flat t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orks unless contradicted by ev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s: What assumptions are reasonable? How to handle contradic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Rules with fudge facto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.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et there o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prinkler 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.99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tGr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tGrass |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.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s: Problems with combination, e.g.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prinkl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us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a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rob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 agent's degree of beli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 the available evid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will get me there on time with probability 0.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stic assertion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mmar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ffect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lazi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failure to enumerate exceptions, qualification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gnor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lack of relevant facts, initial condition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ubje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ba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ies relate propositions to agent's own state of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P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| no reported accidents) = 0.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sertions about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ties of propositions change with new evid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P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| no reported accidents, 5 a.m.) = 0.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57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ing decisions under uncertain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I believ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ets me there on time | …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.0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9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ets me there on time | …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.7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2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s me there on time | …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.9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144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ets me there on time | …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.999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action to choo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my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efere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missing flight vs. time spent waiting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Utility theo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used to represent and infer pre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ecision theo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probability theory + utility the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c element: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andom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to propositional logic: possible worlds defined by assignment of values to random variab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andom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do I have a cavity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Discre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andom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.g.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eath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s one of &lt;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nny,rainy,cloudy,sno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main values must be exhaustive and mutually exclu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ary proposition constructed by assignment of a value to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propositions formed from elementary propositions and standard logical connectives e.g.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eather = sunny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vit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30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30960" indent="-2034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variable: e.g., Weather = sunny, Cavity =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30960" indent="-2034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bbreviated as cav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60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30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tomic ev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A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cification of the state of the world about which the agent is uncer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if the world consists of only two Boolean variabl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othac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n there are 4 distinct atomic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vity = fals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othache =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vity = fals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Toothache =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vity = tru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Toothache =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vity = tru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Toothache =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omic events are mutually exclusive and exhaus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xioms of prob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ny proposition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,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1 and P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al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+ P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- P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38280" y="3809880"/>
            <a:ext cx="378144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8T04:23:21Z</dcterms:created>
  <dc:creator>Min-Yen Kan</dc:creator>
  <dc:description/>
  <dc:language>en-US</dc:language>
  <cp:lastModifiedBy>Min-Yen Kan</cp:lastModifiedBy>
  <dcterms:modified xsi:type="dcterms:W3CDTF">2003-12-18T05:29:09Z</dcterms:modified>
  <cp:revision>8</cp:revision>
  <dc:subject/>
  <dc:title>Uncertainty</dc:title>
</cp:coreProperties>
</file>