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15F5-6886-4DF0-B4C5-C49A3CD6B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B562-D757-491D-8FE6-AFB3ACE08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7844-44F0-4B26-8BBB-37524B94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8E02-EBFB-425A-8FBC-C5689229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8DED-D2DB-4281-A332-5BBEA230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FF25-E2D4-42C0-AFA7-CC156EF8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94F8-4C30-4FA4-914C-43A163EC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7ED3-2F09-4066-8AC7-0633DFFF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CF18-223D-4F11-8A63-622CE5F8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4964-93F3-4291-A7B2-ADC92C41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E421-2D71-42B6-8C87-4C8313B4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F55A-8B94-4557-9A11-4E87BD5FC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1F038-43B9-46B8-A206-6B40DF386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-Order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 qua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at NUS is sma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t(x,NU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rt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in a mod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ing each possible object in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speaking, equivalent to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j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stanti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KingJohn,NU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art(KingJoh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Richard,NU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mart(Richar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(NUS,NUS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art(NU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mmon mistake to av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main connective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mistake: us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main connective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At(x,NU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rt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“Everyone is at NUS and everyone is smar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istential qua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&lt;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t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one at NUS is sma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(x,NU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rt(x)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in a mod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ing some possible object in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speaking, equivalent to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j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stanti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(KingJohn,NU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rt(KingJoh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(Richard,NU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rt(Richar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(NUS,NU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mart(NU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other common mistake to avo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ly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main connective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mistake: using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 the main connective with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(x,NUS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mart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ue if there is anyone who is not at NU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quantif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the same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the same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i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same a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Loves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person who loves everyone in the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Loves(x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one in the world is loved by at least one pers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Quantifier dua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ach can be expressed using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Likes(x,IceCream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s(x,IceC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Likes(x,Broccoli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s(x,Brocco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= ter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rue under a given interpretation if and only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 to the same o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efini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bl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erm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a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bling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 = 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,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 = f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ent(m,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ent(f,x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ent(m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Parent(f,y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F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inship doma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thers are sibl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other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bling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's mother is one's female 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,c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ther(c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Female(m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Parent(m,c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bling” is sym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bling(x,y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Sibling(y,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F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t domai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Set(s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 = {} 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= {x|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 {x|s} =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= {x|s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[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(s = {y|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 = 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acting with FOL K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se a wumpus-world agent is using an FOL KB and perceives a smell and a breeze (but no glitter)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=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el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KB,Percept([Smell,Breeze,None],5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KB,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estAction(a,5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does the KB entail some best action 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=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{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/Sho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←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ubstit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inding 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a sentenc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a substitutio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notes the result of plugging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e.g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Smarter(x,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{x/Hillary,y/Bill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Smarter(Hillary,Bi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s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KB,S) returns some/all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 K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base for the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erce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,s,b Percept([s,b,Glitter],t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litter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Ref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Glitter(t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stAction(Grab,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FO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 and semantics of F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F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umpus world in F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ledge engineering in F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ducing hidden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,y,a,b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jac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[x,y],[a,b]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,b]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{[x+1,y], [x-1,y],[x,y+1],[x,y-1]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ies of squa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,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Agent,s,t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eeze(t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eezy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es are breezy near a p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agnos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---infer cause from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Breezy(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\Exi{r} Adjacent(r,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it(r)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u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---infer effect from c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 Pit(r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Adjacent(r,s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reezy(s)$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engineering in F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e the relevant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a vocabulary of predicates, functions, and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 general knowledge about the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 a description of the specific problem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e queries to the inference procedure and get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bug the knowledg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ronic circuits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bit full ad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46748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ronic circuits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circuit actually add properly? (circuit verific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mble the relevant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wires and gates; Types of gates (AND, OR, XOR, N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elevant: size, shape, color, cost of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de on a vocabul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X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OR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ronic circuits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de general knowledge of the do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ed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Signal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Signal(t) 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t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ed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ed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Type(g) =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1,g)) 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Signal(In(n,g))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Type(g) =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1,g)) = 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Signal(In(n,g)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Type(g) = X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1,g)) =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1,g)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2,g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-517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Type(g) = NO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1,g)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1,g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ronic circuits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de the specific problem in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XO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X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(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1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1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1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2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1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1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1,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2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2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2,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2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2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Out(1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3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2,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Out(1,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Out(2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ed(In(3,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,In(1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electronic circuits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e queries to the inference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re the possible sets of values of all the terminals for the adder circuit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1,C_1))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2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In(3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1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=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gnal(Out(2,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 =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 the knowledg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have omitted assertions like 1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-order logi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s and relations are semantic primi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 constants, functions, predicates, equality, quantif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expressive power: sufficient to define wumpus wor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s and cons of propositional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tional logic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tional logic allows partial/disjunctive/negate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ike most data structures and datab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tional logic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mposi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ing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erived from meaning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 in propositional logic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text-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ike natural language, where meaning depends on con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tional logic has very limited expressiv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unlike natural langu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cannot say "pits cause breezes in adjacent squares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 by writing one sentence for each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-order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as propositional logic assumes the world contain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fac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-order logic (like natural language) assumes the world co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eople, houses, numbers, colors, baseball games, war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d, round, prime, brother of, bigger than, part of, comes betwee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un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ather of, best friend, one more than, plu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 of FOL: Basic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John, 2, NUS,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at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ther, &gt;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rt, LeftLegOf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, y, a, b,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v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tifiers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omic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omic sentence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dica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...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other(KingJohn,RichardTheLionheart) &gt; (Length(LeftLegOf(Richard)), Length(LeftLegOf(KingJohn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sentences are made from atomic sentences using conn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bling(KingJohn,Richar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Sibling(Richard,KingJoh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(1,2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(1,2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(1,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in first-order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s are true with respect to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d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a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erpre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 contains objects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om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l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and relations among th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pretation specifies referent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st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mb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edic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mb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ymb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unctional re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tomic sente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dicate(ter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...,ter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f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objec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erred to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r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...,term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in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ferred to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 for FOL: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670536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2T06:35:44Z</dcterms:created>
  <dc:creator>Min-Yen Kan</dc:creator>
  <dc:description/>
  <dc:language>en-US</dc:language>
  <cp:lastModifiedBy>Min-Yen Kan</cp:lastModifiedBy>
  <dcterms:modified xsi:type="dcterms:W3CDTF">2004-01-02T09:27:55Z</dcterms:modified>
  <cp:revision>4</cp:revision>
  <dc:subject/>
  <dc:title>First-Order Logic</dc:title>
</cp:coreProperties>
</file>