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C644-3FBB-4373-91C6-8D7DC1FD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656B-A5A7-465D-B6E1-9CBF0C96B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D7E7-F5D7-4315-858B-8465BCB3A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956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30492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956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5420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9BDC-618D-41E5-A351-0345AA6B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58F6-9893-40C0-AC45-26E54E8A7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FDE12-3710-4D12-8EF0-9618770D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629F-92A1-4EBC-85A8-2608D059C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E74E-8D7B-47D0-BC04-2A840D2D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7CBF-0825-48C6-992B-C8B89D4F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4F845-7888-48F2-A973-891A388CA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4BE6-A7D0-4DF0-927F-C6A18D770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2F4F-DC5E-4198-8D6D-20693EB1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D411-DF7B-40FE-96A0-F0EA43BD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1450-994A-4A1D-8848-83DA17B9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FE51-575D-4EDF-AFB4-9240D3B7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38763-BC72-4D0F-911F-348441FE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2956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154200" y="152388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0492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2956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154200" y="3931200"/>
            <a:ext cx="278496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DE22-4C5E-45F8-ACBD-9DB150F9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B40C-0B11-4AD2-913C-2C52E8C7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25C6-065D-4DC1-A1AC-F736C65D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F733-1DFF-44CB-A78A-A813B3E8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D7E-D8D8-4F86-9EF7-A9A5F4DB5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CB8C-3573-4C53-A38B-12EC33D5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37240" y="393120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81FC-B73F-47BF-ADF6-86A4D286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7240" y="1523880"/>
            <a:ext cx="422100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31200"/>
            <a:ext cx="8650080" cy="219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4E38-A674-4228-AF33-564A5456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533520"/>
            <a:ext cx="438120" cy="47448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5335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4b4eb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55800"/>
            <a:ext cx="422280" cy="47448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558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b7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82720"/>
            <a:ext cx="560160" cy="422280"/>
          </a:xfrm>
          <a:prstGeom prst="rect">
            <a:avLst/>
          </a:prstGeom>
          <a:gradFill rotWithShape="0">
            <a:gsLst>
              <a:gs pos="0">
                <a:srgbClr val="c481c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25520"/>
            <a:ext cx="31680" cy="1052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2160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045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04776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3D25C-185F-4B51-84F8-6B8B19F5E7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1905120"/>
            <a:ext cx="9009000" cy="1052280"/>
            <a:chOff x="0" y="1905120"/>
            <a:chExt cx="9009000" cy="105228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012760"/>
              <a:ext cx="711360" cy="474480"/>
              <a:chOff x="290520" y="2012760"/>
              <a:chExt cx="711360" cy="47448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012760"/>
                <a:ext cx="437400" cy="474480"/>
              </a:xfrm>
              <a:prstGeom prst="rect">
                <a:avLst/>
              </a:prstGeom>
              <a:solidFill>
                <a:srgbClr val="76b7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01276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76b74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435040"/>
              <a:ext cx="737640" cy="474480"/>
              <a:chOff x="414360" y="2435040"/>
              <a:chExt cx="737640" cy="47448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435040"/>
                <a:ext cx="421560" cy="474480"/>
              </a:xfrm>
              <a:prstGeom prst="rect">
                <a:avLst/>
              </a:prstGeom>
              <a:solidFill>
                <a:srgbClr val="4b4e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435040"/>
                <a:ext cx="369000" cy="4744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b4eb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361960"/>
              <a:ext cx="560520" cy="421920"/>
            </a:xfrm>
            <a:prstGeom prst="rect">
              <a:avLst/>
            </a:prstGeom>
            <a:gradFill rotWithShape="0">
              <a:gsLst>
                <a:gs pos="0">
                  <a:srgbClr val="c481c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1905120"/>
              <a:ext cx="31680" cy="10522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2726280"/>
              <a:ext cx="869292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A161-DAEE-4D97-BC1F-C6B59AD4D531}" type="slidenum">
              <a:rPr b="0" lang="en-US" sz="1400" spc="-1" strike="noStrike">
                <a:solidFill>
                  <a:srgbClr val="333333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6b749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b4eb5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4709a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142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olving problems by searching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pter 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01C4-78A7-4C1B-B32D-9F8642E26FA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vacuum world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Sensorles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1,2,3,4,5,6,7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es to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2,4,6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br>
              <a:rPr sz="24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[Right,Suck,Left,Suck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Conting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deterministic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u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ty a clean carp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ally observable: location, dirt at current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cept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[L, Clean]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.e., start in #5 or #7</a:t>
            </a:r>
            <a:br>
              <a:rPr sz="20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[Right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i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dirt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the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ck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73392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765-8DA9-4B45-95A8-4CAD314D507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Single-state problem formulation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roble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defined by four item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itial stat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"at Arad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ction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uccessor func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(x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set of action–state pai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S(Arad) =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&lt;Arad </a:t>
            </a:r>
            <a:r>
              <a:rPr b="0" i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Zerind, Zerind&gt;, …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goal te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can b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explic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e.g.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= "at Bucharest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implici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e.g.,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heckmate(x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path co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additiv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.g., sum of distances, number of actions executed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(x,a,y)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s the </a:t>
            </a:r>
            <a:r>
              <a:rPr b="0" lang="en-US" sz="1800" spc="-1" strike="noStrike">
                <a:solidFill>
                  <a:srgbClr val="4b4eb5"/>
                </a:solidFill>
                <a:latin typeface="Tahoma"/>
              </a:rPr>
              <a:t>step cos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assumed to be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Arial"/>
              </a:rPr>
              <a:t>≥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olu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s a sequence of actions leading from the initial state to a goal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5E61-F75D-43A2-9C4F-4DFE10998D0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electing a state spac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world is absurdly comple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 space must b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abstract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or problem solv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bstract) state = set of real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bstract) action = complex combination of real a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, "Ara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Zerind" represents a complex set of possible routes, detours, rest stops, etc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guaranteed realizability, </a:t>
            </a: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al state "in Arad“ must get to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eal state "in Zerind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bstract) solution =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t of real paths that are solutions in the real wor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abstract action should be "easier" than the original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AF45-1897-45A7-A697-1C96D5EDDC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Vacuum world state space grap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path co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70564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9523-7730-440C-917A-8A855E98057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Vacuum world state space grap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er dirt and robot lo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ef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u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irt at all lo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path cost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per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52480" y="1600200"/>
            <a:ext cx="570564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8443-A8ED-48D7-877E-76554915250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The 8-puzz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path cos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362320" y="1676520"/>
            <a:ext cx="4257720" cy="21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3259-E092-48FD-A5AF-E6DC41DD3CF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The 8-puzz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s of ti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blank left, right, up, dow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 goal state (give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path cost?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 per mo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Note: optimal solution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Puzzle family is NP-har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362320" y="1371600"/>
            <a:ext cx="4257720" cy="21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F61C-1FE6-4384-85F0-9B01F480D61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robotic assembly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tates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real-valued coordinates of robot joint angles parts of the object to be assemb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actions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ontinuous motions of robot j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goal test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complete 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path cost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ime to exec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800680" cy="232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02D8-1996-45AC-92AA-A85DA5AFBE8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algorithm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line, simulated exploration of state space by generating successors of already-explored states (a.k.a.~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pa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stat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14844" t="37501" r="3127" b="28124"/>
          <a:stretch/>
        </p:blipFill>
        <p:spPr>
          <a:xfrm>
            <a:off x="609480" y="3429000"/>
            <a:ext cx="8001000" cy="25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3F2A-06C8-41E7-83FA-C503F794843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705640" cy="160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889-76F9-4BF6-B6DC-DAAF6533849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Outlin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-solving ag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 formu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probl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ic search 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358E-0E9B-4B61-9B60-BA7D833FA1E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30200" y="1671480"/>
            <a:ext cx="6986520" cy="17240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D63A-5C14-4B05-8F7A-C998BB1E246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30200" y="1671480"/>
            <a:ext cx="6986520" cy="172404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Tree search example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5450-7762-4716-AAA6-5028A68D556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Implementation: general tree search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rcRect l="14844" t="18753" r="3127" b="9376"/>
          <a:stretch/>
        </p:blipFill>
        <p:spPr>
          <a:xfrm>
            <a:off x="990720" y="1600200"/>
            <a:ext cx="731520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8834-4B06-43D9-96E1-0FC93A7F274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ahoma"/>
              </a:rPr>
              <a:t>Implementation: states vs. nodes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(representation of) a physical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a data structure constituting part of a search tree includes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arent no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path co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(x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ep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an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unction creates new nodes, filling in the various fields and using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ccessorF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the problem to create the corresponding sta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4981680" cy="212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15B4-2C87-4DDF-90B0-7A21AB0E492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earch strategi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arch strategy is defined by picking the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order of node expan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ategies are evaluated along the following dim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completenes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does it always find a solution if one exists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time complex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number of nodes gener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space complex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maximum number of nodes in 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4eb5"/>
                </a:solidFill>
                <a:latin typeface="Tahoma"/>
              </a:rPr>
              <a:t>optimalit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does it always find a least-cost solu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and space complexity are measured in terms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ximum branching factor of the search t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th of the least-cost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maximum depth of the state space (may be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197B-1533-4D44-923E-220FC0091F0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Uninformed search strategi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Uninform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earch strategies use only the information available in the problem 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eadth-fir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iform-co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th-first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th-limited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ive deepening sear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21A-AD9D-4145-91F6-A49606A555E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438280" y="3657600"/>
            <a:ext cx="4267440" cy="281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D447-C2FE-4E78-9154-2DF2ADBAB86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4343400" cy="2800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278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04A7-AA9A-4ABA-B4E6-99B3949B704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362320" y="3657600"/>
            <a:ext cx="4343400" cy="2855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9CCD-EC26-4171-AF36-3557F278446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057400" y="3657600"/>
            <a:ext cx="4648320" cy="2789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Bread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and shallowest unexpanded n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a FIFO queue, i.e., new successors go at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91D9-6D80-42B1-A1F3-E95501862AE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blem-solving agent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14844" t="17709" r="3127" b="22917"/>
          <a:stretch/>
        </p:blipFill>
        <p:spPr>
          <a:xfrm>
            <a:off x="685800" y="1676520"/>
            <a:ext cx="8001000" cy="434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AF8D-1EC9-4697-ADA9-09555EF9EFA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perties of breadth-first searc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28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s (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finit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1+b+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+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+… +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= O(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d+1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keeps every node in memor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Yes (if cost = 1 per ste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Sp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the bigger problem (more than t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8067-4493-4363-A12D-A6ABEFB0E6A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Uniform-co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least-cost unexpand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fring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queue ordered by path c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breadth-first if step costs all eq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es, if step co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≥ </a:t>
            </a:r>
            <a:r>
              <a:rPr b="0" lang="el-GR" sz="2400" spc="-1" strike="noStrike">
                <a:solidFill>
                  <a:srgbClr val="000000"/>
                </a:solidFill>
                <a:latin typeface="Tahoma"/>
                <a:ea typeface="Arial"/>
              </a:rPr>
              <a:t>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 of nodes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st of optimal solution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ceiling(C*/ 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ε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s the cost of the optimal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# of nodes wi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≤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 of optimal solution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ceiling(C*/ 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ε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  <a:ea typeface="Arial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Yes – nodes expanded in increasing order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g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A204-85F6-47A7-B34C-C73A0621806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114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20A6-29F2-411A-87AF-8B38DE2967A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9155-3C4E-4456-AE73-1A0E4201C1B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29718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0CCC-B054-4794-BC6B-386CBF0FA5F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291312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B1BD-1052-4EB9-BEF5-DBDF86F1280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114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F10-2319-4415-9441-8BD9416C3D0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181840" cy="30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4AD0-FC55-4082-A37E-0848C7E5AAA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BB0C-73E6-403C-B760-C5B436EF03B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E0E-46DB-414E-9924-11061414247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Romania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holiday in Romania; currently in Ara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ight leaves tomorrow from Buchar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Formulate go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 in Bucha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Formulate proble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tat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various c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drive between c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Find solu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cities, e.g., Arad, Sibiu, Fagaras, Bucha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92C9-4D8A-48A1-B107-EDDBDFD6FA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7484-CBF4-404A-BBB4-1EC3C03F0D4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47B6-4E15-4875-AF46-F80C9B5BE67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0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E576-971E-44BF-A6C9-162C4694593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first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 deepest unexpanded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4eb5"/>
                </a:solidFill>
                <a:latin typeface="Tahoma"/>
              </a:rPr>
              <a:t>Imple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ing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LIFO queue, i.e., put successors at fro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362320" y="3124080"/>
            <a:ext cx="4419360" cy="25686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981080" y="3048120"/>
            <a:ext cx="5181840" cy="302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E3A4-BA54-4675-8C37-6E2F27AA228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Properties of depth-first search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: fails in infinite-depth spaces, spaces with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ify to avoid repeated states along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te in finite spa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(b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terribl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much larger th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if solutions are dense, may be much faster than breadth-fir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(bm)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, linear spa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56F1-73DC-482D-99BA-F64A3A0BE58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Depth-limited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 depth-first search with depth limi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, nodes at dep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ve no success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Recursive implemen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58203" t="36462" r="7422" b="20835"/>
          <a:stretch/>
        </p:blipFill>
        <p:spPr>
          <a:xfrm>
            <a:off x="914400" y="3124080"/>
            <a:ext cx="6705720" cy="31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0E4F-223A-4623-BE55-392A553C9D7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Iterative deepening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rcRect l="14844" t="18753" r="3127" b="51046"/>
          <a:stretch/>
        </p:blipFill>
        <p:spPr>
          <a:xfrm>
            <a:off x="762120" y="1600200"/>
            <a:ext cx="8001000" cy="2209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E45B-4CB6-4771-AE80-D0162F4443E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0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62120" y="1657440"/>
            <a:ext cx="7619760" cy="354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7E91-C803-4054-84D2-ABFB4D8E8F29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1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762120" y="1657440"/>
            <a:ext cx="7619760" cy="354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7E92-A8D0-4134-9888-D4A79632A75A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2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62120" y="1652760"/>
            <a:ext cx="7619760" cy="3552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DC34-DD46-46B2-9A88-A85942F334A4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Romania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382240" cy="5037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4C5E-E320-4DB8-899D-9161331A657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Iterative deepening search </a:t>
            </a:r>
            <a:r>
              <a:rPr b="0" i="1" lang="en-US" sz="4000" spc="-1" strike="noStrike">
                <a:solidFill>
                  <a:srgbClr val="000066"/>
                </a:solidFill>
                <a:latin typeface="Tahoma"/>
              </a:rPr>
              <a:t>l </a:t>
            </a:r>
            <a:r>
              <a:rPr b="0" lang="en-US" sz="4000" spc="-1" strike="noStrike">
                <a:solidFill>
                  <a:srgbClr val="000066"/>
                </a:solidFill>
                <a:latin typeface="Tahoma"/>
              </a:rPr>
              <a:t>=3</a:t>
            </a:r>
            <a:endParaRPr b="0" lang="en-US" sz="4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62120" y="1657440"/>
            <a:ext cx="7619760" cy="354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4DBB-F96B-4BB2-BEF3-32A324AEE2A1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Iterative deepening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generated in a depth-limited search to dep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branching fact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DLS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=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…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d-2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d-1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r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nodes generated in an iterative deepening search to depth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with branching fact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= (d+1)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d b^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(d-1)b^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… + 3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-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2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-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+ 1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 = 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 = 5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DLS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 1 + 10 + 100 + 1,000 + 10,000 + 100,000 = 111,11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D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 + 50 + 400 + 3,000 + 20,000 + 100,000 = 123,45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 = (123,456 - 111,111)/111,111 = 11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0DA1-369F-4C76-804E-C82F491ACA9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perties of iterative deepening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Complete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Time?</a:t>
            </a:r>
            <a:r>
              <a:rPr b="0" lang="en-US" sz="32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(d+1)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+ d 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+ (d-1)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+ … + 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= O(b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Space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(b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99"/>
                </a:solidFill>
                <a:uFillTx/>
                <a:latin typeface="Tahoma"/>
              </a:rPr>
              <a:t>Optimal?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Yes, if step cost = 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851-F51E-4389-8A10-9DC82FFF5ED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ummary of algorithm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rcRect l="14065" t="22917" r="17970" b="51046"/>
          <a:stretch/>
        </p:blipFill>
        <p:spPr>
          <a:xfrm>
            <a:off x="1143000" y="1676520"/>
            <a:ext cx="662940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9724-DDA6-4FB2-9CC2-A48ECE24C02B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Repeated stat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ilure to detect repeated states can turn a linear problem into an exponential on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04920" y="2895480"/>
            <a:ext cx="8229600" cy="301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A25-8DB4-4D2B-9AE4-4AD06DEEF8B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Graph search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14065" t="16666" r="3127" b="35419"/>
          <a:stretch/>
        </p:blipFill>
        <p:spPr>
          <a:xfrm>
            <a:off x="609480" y="1676520"/>
            <a:ext cx="8077320" cy="35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C858-0368-4809-BB4F-1B5B3E28DCBB}" type="slidenum">
              <a:t>5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 formulation usually requires abstracting away real-world details to define a state space that can feasibly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ety of uninformed search strate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ve deepening search uses only linear space and not much more time than other uninformed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E5E2-2C56-473C-8CF6-8F088BB1AE35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Problem types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Deterministic, fully observ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ingle-state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ent knows exactly which state it will be in; solution is a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Non-observable</a:t>
            </a:r>
            <a:r>
              <a:rPr b="0" lang="en-US" sz="2400" spc="-1" strike="noStrike">
                <a:solidFill>
                  <a:srgbClr val="4b4eb5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sensorless problem (conformant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ent may have no idea where it is; solution is a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Nondeterministic and/or partially observ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ntingency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cepts provid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new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formation about current 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ften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interleav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} search, exec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Unknown state spac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xploration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EA2D-BC09-41CE-8776-4AE3AAA054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vacuum world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42433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Single-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tart in #5. </a:t>
            </a: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870440" y="1757520"/>
            <a:ext cx="3925800" cy="329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E23-886E-4B2E-A75F-CA5D409E93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vacuum world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Single-st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start in #5. </a:t>
            </a:r>
            <a:br>
              <a:rPr sz="24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[Right, Suck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Sensorles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1,2,3,4,5,6,7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es to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2,4,6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br>
              <a:rPr sz="24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73392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38A1-DEEA-4E7F-B300-3D215E1916A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Example: vacuum world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5008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Sensorless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1,2,3,4,5,6,7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igh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es to {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2,4,6,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 </a:t>
            </a:r>
            <a:br>
              <a:rPr sz="24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[Right,Suck,Left,Suck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eb5"/>
                </a:solidFill>
                <a:latin typeface="Tahoma"/>
              </a:rPr>
              <a:t>Contingenc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deterministic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uc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ay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ty a clean carp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rtially observable: location, dirt at current locat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c481c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cept: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[L, Clean]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.e., start in #5 or #7</a:t>
            </a:r>
            <a:br>
              <a:rPr sz="2000"/>
            </a:br>
            <a:r>
              <a:rPr b="0" lang="en-US" sz="2400" spc="-1" strike="noStrike" u="sng">
                <a:solidFill>
                  <a:srgbClr val="cc0099"/>
                </a:solidFill>
                <a:uFillTx/>
                <a:latin typeface="Tahoma"/>
              </a:rPr>
              <a:t>Solution?</a:t>
            </a: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cc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3733920" cy="324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 3243 - Blind Search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009E-74AB-47AA-AC6B-3ABC329EF46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4 Jan 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2:58:58Z</dcterms:created>
  <dc:creator>Min-Yen Kan</dc:creator>
  <dc:description/>
  <dc:language>en-US</dc:language>
  <cp:lastModifiedBy>Min-Yen Kan</cp:lastModifiedBy>
  <dcterms:modified xsi:type="dcterms:W3CDTF">2003-12-22T03:06:45Z</dcterms:modified>
  <cp:revision>5</cp:revision>
  <dc:subject/>
  <dc:title>Solving problems by searching</dc:title>
</cp:coreProperties>
</file>