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2FAA-3D60-495C-A680-85F2AF3F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C82D-C07F-411C-8076-9F3774CB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0411-4944-45F5-B9D5-9EE70A924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72A3-1213-4777-ADF5-081767DD5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5B10-63CA-451F-9241-53D5F56CD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3846-5E39-4197-9F30-D3C87DC2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5134-A128-44AE-8561-2F58A95F6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BC11-0C60-40C3-910E-FDE550BF9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EC2B-0328-4ED7-A76E-94DBDB27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A312-E032-4EA8-9311-06086264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D22C-A282-451F-8F93-B28EBBC8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63E1-BA7C-4FE1-92F1-202DC1B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2889-F5DA-4CF2-91B2-2C9992318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ersarial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α-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n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es 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ffect fin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move ordering improves effectiveness of pru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"perfect ordering," time complexity =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/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ou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pth of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 example of the value of reasoning about which computations are relevant (a form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a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is it called α-β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α is the value of the best (i.e., highest-value) choice found so far at any choice point along the path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worse than α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avoi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une that bra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β similarly fo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68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α-β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6405" t="25004" r="15626" b="15627"/>
          <a:stretch/>
        </p:blipFill>
        <p:spPr>
          <a:xfrm>
            <a:off x="685800" y="1295280"/>
            <a:ext cx="762012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α-β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15626" t="25004" r="15626" b="33337"/>
          <a:stretch/>
        </p:blipFill>
        <p:spPr>
          <a:xfrm>
            <a:off x="685800" y="1523880"/>
            <a:ext cx="777240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 lim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we have 100 secs, explore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des/se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per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utoff tes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depth limit (perhaps ad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iescence sear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ion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estimated desirability of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hess, typical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ighted sum o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(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+ … +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) = (number of white queens) –  (number of black queens)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tting off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axCuto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identical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inimaxVal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rmina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t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plac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it work in pract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=35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=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-ply lookahead is a hopeless chess play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no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ypical PC, human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ep Blue, Kaspa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al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α-β pr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fect, real-time deci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terministic games in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ers: Chinook ended 40-year-reign of human world champion Marion Tinsley in 1994. Used a precomputed endgame database defining perfect play for all positions involving 8 or fewer pieces on the board, a total of 444 billion pos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ss: Deep Blue defeated human world champion Garry Kasparov in a six-game match in 1997. Deep Blue searches 200 million positions per second, uses very sophisticated evaluation, and undisclosed methods for extending some lines of search up to 40 p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llo: human champions refuse to compete against computers, who are too g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: human champions refuse to compete against computers, who are too bad. In go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&gt; 30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most programs use pattern knowledge bases to suggest plausible mo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mes are fun to work 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illustrate several important points about 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ection is unattainabl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st approx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idea to think about what to think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s vs. search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Unpredictable" opponen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pecifying a move for every possible opponent re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mi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likely to find goal, must approx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me tree (2-player, deterministic, turn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604836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 play for deterministic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choose move to position with highe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inimax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est achievable payoff against best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2-ply g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90720" y="3657600"/>
            <a:ext cx="670536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15626" t="25004" r="15626" b="11458"/>
          <a:stretch/>
        </p:blipFill>
        <p:spPr>
          <a:xfrm>
            <a:off x="914400" y="1371600"/>
            <a:ext cx="71629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mini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s (if tree is 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s (against an optimal oppon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Time complexit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Space complexity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(bm) (depth-first explo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hess,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5, 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for "reasonable" gam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act solution completely infea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α-β pruning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6:37:42Z</dcterms:created>
  <dc:creator>Min-Yen Kan</dc:creator>
  <dc:description/>
  <dc:language>en-US</dc:language>
  <cp:lastModifiedBy>Min-Yen Kan</cp:lastModifiedBy>
  <dcterms:modified xsi:type="dcterms:W3CDTF">2003-12-17T06:56:02Z</dcterms:modified>
  <cp:revision>3</cp:revision>
  <dc:subject/>
  <dc:title>Adversarial Search</dc:title>
</cp:coreProperties>
</file>