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2A8A-17C2-4459-8CFB-9389202E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8368-34B5-4CC2-918A-2148450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089-64E9-4114-8769-185A7D6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1D15-C098-4B76-83A4-59F73688E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411-63AD-42EC-8577-E6D49D455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BAFE-FA3D-4261-B59E-30348674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D7A3-CEF0-4906-90F7-2A9F0AF2F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C206-B3F1-4FEC-A35D-E885A5CD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F2CF-E558-4160-9554-ED1778BFE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837-2F64-48B1-B2FA-E547E328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585-9C63-4E9F-AA45-1D21433F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917-7FF2-410B-B793-D1D972C8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49FB-A6FC-4BD5-882D-2A11EA22A3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 in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ormal languages for representing information such that conclusions can be dra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s the sentences in th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fine the "meaning" of senten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defin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 sentence in a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language of arithm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a sentence; x2+y &gt; {} is no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ff the number x+2 is no less than the numbe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true in a world where x = 7, y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+2 ≥ y is false in a world where x = 0, y =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ans that one thing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llows f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b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ails sentence α if and only if α is true in all worlds 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the KB containing “the Giants won” and “the Reds won” entails “Either the Giants won or the Reds w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x+y = 4 entails  4 = x+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ailment is a relationship between sentences (i.e.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ynt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hat is 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ians typically think in terms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ich are formally structured worlds with respect to which truth can be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sa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s a model o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sentence α if α is true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α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set of all models of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KB ╞ α if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KB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Giants won and Red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n α = Giants w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105520" y="2895480"/>
            <a:ext cx="3581280" cy="32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ailment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tion after detecting nothing in [1,1], moving right, breeze in [2,1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possible models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ssuming only p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Boolean choice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 possible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867280" y="2057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-based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umpus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 in general - models and entail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tional (Boolean) log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ce, validity, satisf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rence rules and theorem pr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"[1,2] is safe"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╞ 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roved b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5028840"/>
            <a:ext cx="84582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wumpus-world rules +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"[2,2] is safe"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╞ α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105520" y="5638320"/>
            <a:ext cx="15228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4191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= sentence α can be derived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procedu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ound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mplete if whene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, it is also true tha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├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ew: we will define a logic (first-order logic) which is expressive enough to say almost anything of interest, and for which there exists a sound and complete inference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the procedure will answer any question whose answer follows from what is known by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tional logic is the simplest logic –  illustrates basic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position symbols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 ar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 is a sentenc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g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isjun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ic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sentences,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sentence (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i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itional logic: 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model specifies true/false for each proposition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se symbols, 8 possible models, can be enumerated automat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les for evaluating truth with respect to a mode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is fals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is true iff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fals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true if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 recursive process evaluates an arbitrary sentence, e.g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conn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37502" t="30211" r="7811" b="50002"/>
          <a:stretch/>
        </p:blipFill>
        <p:spPr>
          <a:xfrm>
            <a:off x="609480" y="1371600"/>
            <a:ext cx="769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pit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 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true if there is a breeze in [i, j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Pits cause breezes in adjacent square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th tables for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7502" t="30211" r="7811" b="32293"/>
          <a:stretch/>
        </p:blipFill>
        <p:spPr>
          <a:xfrm>
            <a:off x="762120" y="1371600"/>
            <a:ext cx="754380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32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base = set of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ten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lara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pproach to building an agent (or other syste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el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hat it needs to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it can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tself what to do - answers should follow from the K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s can be viewed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what they know, regardless of how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at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mplementation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data structures in KB and algorithms that manipulate th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655308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th-first enumeration of all models is sound and comple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ymbols, tim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pace complexity i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31253" t="35419" r="783" b="19791"/>
          <a:stretch/>
        </p:blipFill>
        <p:spPr>
          <a:xfrm>
            <a:off x="1143000" y="1981080"/>
            <a:ext cx="66294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ical equival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sentences ar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ally equival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iff true in same models: 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≡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ß iff α╞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3597" t="39583" r="3127" b="15627"/>
          <a:stretch/>
        </p:blipFill>
        <p:spPr>
          <a:xfrm>
            <a:off x="1143000" y="2514600"/>
            <a:ext cx="7162920" cy="38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lidity and satisf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val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idity is connected to inference via the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duction 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α) is val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tence i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nsatisf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it is true in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d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iability is connected to inference via the follow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╞ α if and only if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α) is unsatisf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methods divide into (roughly) two ki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pplication of inference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gitimate (sound) generation of new sentences from 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a sequence of inference rule applica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use inference rules as operators in a standard search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 require transformation of sentences into a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ormal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el chec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uth table enumeration (always exponential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backtracking, e.g., Davis--Putnam-Logemann-Loveland (DP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istic search in model space (sound but incomple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min-conflicts-like hill-climbing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junctive Normal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N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isjunction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it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esolu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ference rule (for CN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complementary liter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sound and complet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ropositional log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3600" y="4191120"/>
            <a:ext cx="1889280" cy="1895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95280" y="35812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4724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ness of resolution inference ru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-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365760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version to CN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3160" indent="-443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(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β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α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limina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placing 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Mo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wards using de Morgan's rules and double-neg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Apply distributivity law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nd flat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69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3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contradiction, i.e., show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unsatisf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25782" t="28124" r="5467" b="32293"/>
          <a:stretch/>
        </p:blipFill>
        <p:spPr>
          <a:xfrm>
            <a:off x="609480" y="2286000"/>
            <a:ext cx="777240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lu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(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,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3520" y="2971800"/>
            <a:ext cx="80103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nd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orn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restric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B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nj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Horn cl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n clause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sition symbol;  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junction of symbols)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ymb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)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odus Pon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or Horn Form): complete for Horn K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used with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ackward ch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algorithms are very natural and run in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3886200"/>
            <a:ext cx="533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imple knowledge-based ag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19076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gent must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 states, ac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 new per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internal representation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hidden properties of the wor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e appropriat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rcRect l="31253" t="30211" r="0" b="36462"/>
          <a:stretch/>
        </p:blipFill>
        <p:spPr>
          <a:xfrm>
            <a:off x="685800" y="1447920"/>
            <a:ext cx="76201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fire any rule whose premises are satisfied in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its conclusion to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until query is f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51563" t="32293" r="4688" b="30211"/>
          <a:stretch/>
        </p:blipFill>
        <p:spPr>
          <a:xfrm>
            <a:off x="2057400" y="2895480"/>
            <a:ext cx="5029200" cy="32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3341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chaining is sound and complete for Horn 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31253" t="30211" r="783" b="17709"/>
          <a:stretch/>
        </p:blipFill>
        <p:spPr>
          <a:xfrm>
            <a:off x="990720" y="1523880"/>
            <a:ext cx="66294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1523880"/>
            <a:ext cx="3125520" cy="464832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PEAS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erformance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ld +1000, death -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per step, -10 for using th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wumpus are s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uares adjacent to pit are bree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itter iff gold is in the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kills wumpus if you are facing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oting uses up the only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bbing picks up gold if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ing drops the gold in same squ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tench, Breeze, Glitter, Bump, Sc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ft turn, Right turn, Forward, Grab, Release, Sh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715000" y="2057400"/>
            <a:ext cx="277164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of complet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C derives every atomic sentence that is entailed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reache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xed poi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no new atomic sentences are de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 final state as a mod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ssigning true/false to symb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lause in the origin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╞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nclu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work backwards from the qu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BC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known already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 by BC all premises of some rule conclud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loops: check if new subgoal is already on the goa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repeated work: check if new sub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been proved true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lready fa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umpus world character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Full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Observ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onl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oc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outcomes exactly spec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Episod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– sequential at the level of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Yes – Wumpus and Pits do not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Discr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Single-agent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es – Wumpus is essentially a natural 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chai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666880" y="1447920"/>
            <a:ext cx="31766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vs. backward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ata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utomatic, unconscious process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object recognition, routin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do lots of work that is irrelevant to the go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al-driv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ppropriate for problem-solv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here are my keys? How do I get into a PhD progra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of BC can b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ch l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 linear in size of 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icient propositional i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families of efficient algorithms for propositional in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backtracking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L algorithm (Davis, Putnam, Logemann, Lovel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local search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if an input propositional logic sentence (in CNF) is satisf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ments over truth table enumer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clause is true if any literal is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sentence is false if any clause is fal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e symbol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e symbol: always appears with the same "sign" in all claus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In the three clauses (A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), 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), (C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), A and B are pure, C is impur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ke a pure symbol literal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 clause heur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t clause: only one literal in the cla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nly literal in a unit clause must be tr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9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95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PLL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7343" t="22917" r="3127" b="17709"/>
          <a:stretch/>
        </p:blipFill>
        <p:spPr>
          <a:xfrm>
            <a:off x="762120" y="1371600"/>
            <a:ext cx="761976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, local search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: The min-conflict heuristic of minimizing the number of unsatisfied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lance between greediness and random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</a:rPr>
              <a:t>WalkSA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27343" t="22917" r="3127" b="31250"/>
          <a:stretch/>
        </p:blipFill>
        <p:spPr>
          <a:xfrm>
            <a:off x="762120" y="1523880"/>
            <a:ext cx="754380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random 3-CNF sentences. e.g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cl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number of symb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 problems seem to cluster nea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/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.3 (critical po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62940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 satisfiabilit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52578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 runtime for 100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atisfia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 3-CNF sentence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486400" cy="39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-based agents in the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umpus-world agent using propositional log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+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,y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x-1,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4,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,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distinct proposition symbols, 155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rcRect l="27343" t="14584" r="4688" b="20835"/>
          <a:stretch/>
        </p:blipFill>
        <p:spPr>
          <a:xfrm>
            <a:off x="457200" y="304920"/>
            <a:ext cx="8229600" cy="58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B contains "physics" sentences for every single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very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very location [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cingRigh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war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+1,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proliferation of cl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 limitation of propositional log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10732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11280" y="3276720"/>
            <a:ext cx="23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agents apply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nowledge ba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erive new information and mak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concepts of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ynta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formal structure of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man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ru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sentences wrt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ntailme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ecessary truth of one sentence give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nfer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ing sentences from other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und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produce only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letene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derivations can produce all entailed sent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umpus world requires the ability to represent partial and negated information, reason by cas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lution is complete for propositional logi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, backward chaining are linear-time, complete for Horn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itional logic lacks expressive p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a wumpus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86080" y="2138400"/>
            <a:ext cx="257184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7:08:22Z</dcterms:created>
  <dc:creator>Min-Yen Kan</dc:creator>
  <dc:description/>
  <dc:language>en-US</dc:language>
  <cp:lastModifiedBy>Min-Yen Kan</cp:lastModifiedBy>
  <dcterms:modified xsi:type="dcterms:W3CDTF">2003-12-18T04:12:02Z</dcterms:modified>
  <cp:revision>6</cp:revision>
  <dc:subject/>
  <dc:title>Logical Agents</dc:title>
</cp:coreProperties>
</file>