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6E6F-0106-4E8D-B1E5-D1DBF0DCD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E456-1246-49DE-91AA-13A1AEC9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C5BB-D12A-47D4-A245-122FD5C33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4B78-D809-4003-8E99-9EFDC23B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5F75-8F1A-49A8-88F4-25AD8C87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3E48-A19B-45D8-B430-64290A3B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32B4-A313-417C-BD2B-A49E2B789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55FA-0117-478C-A230-524F7914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9CB3-8E92-43C7-B65B-AA219A28D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F243-7B20-45BC-85F5-7E7637B9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9B21-C439-4811-B695-645D7A643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91D5-F0A6-4CFA-9CA0-EADB173C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1569-2F2D-4108-A981-C5DD6C687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ed search algorith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67320" cy="1990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dy best-first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67320" cy="1990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dy best-first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greedy best-first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Complet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 – can get stuck in loops, e.g., Iasi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am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asi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amt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Tim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(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but a good heuristic can give dramatic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Spac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O(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keeps all nodes in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Optimal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: avoid expanding paths that are already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fun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(n) = g(n) + h(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(n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cost so far to reac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(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estimated cost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(n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estimated total cost of path throug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4100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4 Section 1 -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de memory-bounded heuristic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ssible heu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euristic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missi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for every nod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(n)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n)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r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to reach the goal state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dmissible heuristic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ever overestima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cost to reach the goal, i.e., it i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ptim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L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never overestimates the actual road dist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or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(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dmissible,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TREE-SEARC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pti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ity of 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proof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some suboptimal go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been generated and is in the fringe. 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n unexpanded node in the fringe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on a shortest path to an optimal go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= g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&gt; g(G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suboptim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G)   = g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G) =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&gt; f(G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ab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35053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ity of 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proof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some suboptimal go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been generated and is in the fringe. 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an unexpanded node in the fringe 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on a shortest path to an optimal goa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gt; f(G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ab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^*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h is admi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(n) + h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(n) + h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(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(G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&gt; f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ll never select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expa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35053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stent heu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euristic i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sist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for every no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every success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nerated by any acti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(n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c(n,a,n') + h(n'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onsistent, we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(n'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g(n') + h(n'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g(n) + c(n,a,n') + h(n'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≥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(n) + h(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f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n-decreasing along any p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or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(n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onsistent, A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APH-SEAR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opt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562720" y="2362320"/>
            <a:ext cx="196200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mality of 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pands nodes in order of increas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ually adds "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contours" of no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ou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all nodes wit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=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&lt; 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47920" y="3048120"/>
            <a:ext cx="563868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A$^*$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Complet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s (unless there are infinitely many nodes with 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f(G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Tim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on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Space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eeps all nodes in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Arial"/>
              </a:rPr>
              <a:t>Optimal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ssible heu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or the 8-puzz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misplaced 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otal Manhattan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., no. of squares from desired location of each t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h</a:t>
            </a:r>
            <a:r>
              <a:rPr b="0" lang="en-US" sz="2800" spc="-1" strike="noStrike" u="sng" baseline="-25000">
                <a:solidFill>
                  <a:srgbClr val="cc0099"/>
                </a:solidFill>
                <a:uFillTx/>
                <a:latin typeface="Arial"/>
              </a:rPr>
              <a:t>1</a:t>
            </a: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(S) =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h</a:t>
            </a:r>
            <a:r>
              <a:rPr b="0" lang="en-US" sz="2800" spc="-1" strike="noStrike" u="sng" baseline="-25000">
                <a:solidFill>
                  <a:srgbClr val="cc0099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(S) = 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962520" y="3048120"/>
            <a:ext cx="42577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missible heuris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for the 8-puzz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misplaced t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otal Manhattan 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.e., no. of squares from desired location of each t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h</a:t>
            </a:r>
            <a:r>
              <a:rPr b="0" lang="en-US" sz="2800" spc="-1" strike="noStrike" u="sng" baseline="-25000">
                <a:solidFill>
                  <a:srgbClr val="cc0099"/>
                </a:solidFill>
                <a:uFillTx/>
                <a:latin typeface="Arial"/>
              </a:rPr>
              <a:t>1</a:t>
            </a: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(S) = 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h</a:t>
            </a:r>
            <a:r>
              <a:rPr b="0" lang="en-US" sz="2800" spc="-1" strike="noStrike" u="sng" baseline="-25000">
                <a:solidFill>
                  <a:srgbClr val="cc0099"/>
                </a:solidFill>
                <a:uFillTx/>
                <a:latin typeface="Arial"/>
              </a:rPr>
              <a:t>2</a:t>
            </a:r>
            <a:r>
              <a:rPr b="0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(S) = 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+1+2+2+2+3+3+2 = 1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62520" y="3048120"/>
            <a:ext cx="42577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in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l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oth admis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omin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better for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search costs (average number of nodes expand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=1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S = 3,644,035 no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227 nod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73 no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=24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S = too many no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39,135 nod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1,641 no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xed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blem with fewer restrictions on the actions is called 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relaxed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st of an optimal solution to a relaxed problem is an admissible heuristic for the original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rules of the 8-puzzle are relaxed so that a tile can mov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yw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the shortest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rules are relaxed so that a tile can move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ny adjacent square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the shortest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-first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edy best-first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u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ll-climbing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ated annealing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beam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search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any optimization problems, th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a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goal is irrelevant; the goal state itself is th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space = set of "complete"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configuration satisfying constraints, e.g., n-que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uch cases, we can use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cal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a single "current" state, try to improv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que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queens on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ard with no two queens on the same row, column, or diag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8080" y="3505320"/>
            <a:ext cx="7467840" cy="18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-climbing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Like climbing Everest in thick fog with amnesia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17970" t="27086" r="13282" b="36462"/>
          <a:stretch/>
        </p:blipFill>
        <p:spPr>
          <a:xfrm>
            <a:off x="838080" y="2743200"/>
            <a:ext cx="76201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ll-climbing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 depending on initial state, can get stuck in local max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66680" y="2743200"/>
            <a:ext cx="693432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ll-climbing search: 8-queens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48006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number of pairs of queens that are attacking each other, either directly or indirect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= 1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above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ill-climbing search: 8-queens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743200" y="1295280"/>
            <a:ext cx="3733920" cy="3733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57200" y="4800600"/>
            <a:ext cx="822960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cal minimum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ted annealing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: escape local maxima by allowing some "bad" moves but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gradually decre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ir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17970" t="31250" r="13282" b="17709"/>
          <a:stretch/>
        </p:blipFill>
        <p:spPr>
          <a:xfrm>
            <a:off x="1371600" y="3048120"/>
            <a:ext cx="62485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erties of simulated annealing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an prove: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reases slowly enough, then simulated annealing search will find a global optimum with probability approaching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dely used in VLSI layout, airline scheduling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beam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rack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s rather than just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ndomly generated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iteration, all the successors of al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s are gener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one is a goal state, stop; else select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st successors from the complete list and repe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ccessor state is generated by combining two paren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ndomly generated states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opu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te is represented as a string over a finite alphabet (often a string of 0s and 1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function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tness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Higher values for better st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the next generation of states by selection, crossover, and m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ew: Tree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input{\file{algorithms}{tree-search-short-algorithm}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earch strategy is defined by picking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order of node expa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ness function: number of non-attacking pairs of queens (min = 0, max = 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/2 = 2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/(24+23+20+11) = 3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/(24+23+20+11) = 29%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171440" y="2433600"/>
            <a:ext cx="68011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st-first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use a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valuation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(n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of "desirability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and most desirable unexpanded n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plemen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the nodes in fringe in decreasing order of desi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eedy best-first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mania with step costs in k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2296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dy best-first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fun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(n) = h(n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ist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estimate of cost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SLD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n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straight-line distance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ucha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dy best-first search expands the node that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ppea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be closest to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dy best-first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6732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67320" cy="1990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dy best-first search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4:31:51Z</dcterms:created>
  <dc:creator>Min-Yen Kan</dc:creator>
  <dc:description/>
  <dc:language>en-US</dc:language>
  <cp:lastModifiedBy>Min-Yen Kan</cp:lastModifiedBy>
  <dcterms:modified xsi:type="dcterms:W3CDTF">2003-12-17T05:12:36Z</dcterms:modified>
  <cp:revision>5</cp:revision>
  <dc:subject/>
  <dc:title>Informed search algorithms </dc:title>
</cp:coreProperties>
</file>