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998-CA83-4521-8337-D1B3AB1C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034-1350-4687-A940-5A4E773C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0BC1-7D57-414F-9048-6371C707A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859-967A-4FF6-A7DB-A47EEDC4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CABA1-9024-441E-9F60-186151E88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E9896-B6C4-46AE-8624-D789580E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4FBA-8F2D-4C91-9BB7-4BA8ECDED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7E17-AD99-427B-AF06-674EC5F7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825CB-0CE2-422D-BB37-B96ABEFC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10FCC-FA3A-44BE-BBE7-F98D51983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1348-0CE8-4169-A98F-18613F79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1091-28BB-49FF-B79E-9C2A6311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AF080-2CEB-43D9-9F93-BEE899E9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93B4-9CB9-4760-94C5-F4CBA392C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8A6B-A2B7-4E93-A704-F4982ED7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B96F-05BF-4239-A877-05F2E4562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E74C5-74A5-40DB-915A-741BDE33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7C9A-29D4-44B7-9C2F-26D1713E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D88-2F72-46A8-A981-3CC2185A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14A2-9056-4E6A-9982-E4CF06A2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613-8917-40F5-82DD-FB32816A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9F1E-E14A-4FC3-BEB9-956B9839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9E1A-B029-4672-95F7-E6FFC615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C61-FAB6-4216-AECA-0305D5A9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b44c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44c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fdf7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df70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b0d27e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730B-006B-495C-9577-866C093EE8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fdf7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df70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b44c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b44ca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b0d27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0F5B5-74CB-4A1B-87F0-85C8752185CC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b44cad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ebf440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Satisfaction Problem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8F9D-BE27-4F5B-AF2F-BEBED6DE7FA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Real-world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men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o teaches what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tabling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which class is offered when and wher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ation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y schedu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ce that many real-world problems involve real-valued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03E-DD34-41BA-9614-683B6AE36A8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6501"/>
                </a:solidFill>
                <a:latin typeface="Tahoma"/>
              </a:rPr>
              <a:t>Standard search formulation (incremental)</a:t>
            </a:r>
            <a:endParaRPr b="0" lang="en-US" sz="28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t's start with the straightforward approach, then fix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s are defined by the values assigned so f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Initial 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empty assignment { 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ssign a value to an unassigned variable that does not conflict with current assign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il if no legal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the current assignment is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same for all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ry solution appears at dep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use depth-first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h is irrelevant, so can also use complete-state formu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 = (n -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)d at depth </a:t>
            </a:r>
            <a:r>
              <a:rPr b="0" lang="en-US" sz="2000" spc="-1" strike="noStrike">
                <a:solidFill>
                  <a:srgbClr val="000000"/>
                </a:solidFill>
                <a:latin typeface="Monotype Corsiva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hence n!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leav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C3D8-637A-4133-AB4C-7F35C79BF741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assignments are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mmutati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, i.e.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[ WA = red then NT = green ] same as [ NT = green then WA = red ]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need to consider assignments to a single variable at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d and there are $d^n$ leav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-first search for CSPs with single-variable assignments is called </a:t>
            </a: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backtrack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search is the basic uninformed algorithm for CS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solv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queens for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1291-01DA-4E8B-ADCE-D013934A41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searc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17188" t="21878" r="13282" b="29168"/>
          <a:stretch/>
        </p:blipFill>
        <p:spPr>
          <a:xfrm>
            <a:off x="609480" y="1371600"/>
            <a:ext cx="7848720" cy="414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C4DF-5109-4119-95BD-AED1C179A0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FF24-BF6E-4EB8-A801-BDBB2D22981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AB65-88EE-4E0F-9736-212EF73A12F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24E6-1A88-455C-91BE-E16C790EB2F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Backtracking examp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43040" y="1619280"/>
            <a:ext cx="5857920" cy="361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3FA5-24A7-46EE-AA3F-464CAE688A3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Improving backtracking efficiency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ethods can give huge gains in speed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ich variable should be assigned nex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hat order should its values be tri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we detect inevitable failure ear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9A84-2F4F-4471-A5DE-7F45EEC68E2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ed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ed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fewest legal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.k.a. </a:t>
            </a:r>
            <a:r>
              <a:rPr b="0" lang="en-US" sz="3200" spc="-1" strike="noStrike">
                <a:solidFill>
                  <a:srgbClr val="b44cad"/>
                </a:solidFill>
                <a:latin typeface="Tahoma"/>
              </a:rPr>
              <a:t>minimum remaining values (MRV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heur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447920" y="3124080"/>
            <a:ext cx="6105240" cy="99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2F9-270C-470B-9798-16E40AD06D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traint Satisfaction Problems (CS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cktracking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al search for CS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8F9-B921-44CD-9257-48D01555099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Most constraining variabl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e-breaker among most constrained varia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nstraining variab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ose the variable with the most constraints on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7620120" cy="123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F14E-2684-423F-B6AB-1561CFCE219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east constraining value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n a variable, choose the least constraining val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one that rules out the fewest values in the remaining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bining these heuristics makes 1000 queens feas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90720" y="3505320"/>
            <a:ext cx="7086600" cy="167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3CE-8984-4FB8-8098-D0058728B4B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8C53-FAC6-4023-AA88-94767183D83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69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737D-A11F-4928-8C15-7A00A193444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66DF-DB84-45D1-9A39-29F94CE220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Forward check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Ide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 track of remaining legal values for unassigned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rminate search when any variable has no legal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04840" y="3048120"/>
            <a:ext cx="5134320" cy="227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C5B-2C34-4433-B3FD-B677CC18EE5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propagation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checking propagates information from assigned to unassigned variables, but doesn't provide early detection for all failur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 and SA cannot both be blue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 propag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peatedly enforces constraints lo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81080" y="2819520"/>
            <a:ext cx="51339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9AED-D2BA-4C64-B62C-B8F8F1CE2D1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D43-E7A7-4240-8F13-FE108EECF2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23880" y="289548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61F7-BA34-4E2F-AA8F-B601A8D339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1C14-5DF5-41B8-BEBC-42844D5F593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6501"/>
                </a:solidFill>
                <a:latin typeface="Tahoma"/>
              </a:rPr>
              <a:t>Constraint satisfaction problems (CSPs)</a:t>
            </a:r>
            <a:endParaRPr b="0" lang="en-US" sz="32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search proble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"black box“ – any data structure that supports successor function, heuristic function, and goal t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stat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with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valu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m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domai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t of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specifying allowable combinations of values for subsets of variab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example of 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rmal representation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useful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general-purpos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lgorithms with more power than standard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70F9-F023-48EB-88B5-D912B6A4E0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Arc consistenc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st form of propagation makes each arc </a:t>
            </a: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consistent i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ever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lu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re i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llowe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loses a value, neighbors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eed to be recheck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c consistency detects failure earlier than forward che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un as a preprocessor or after each assig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004840" y="2895480"/>
            <a:ext cx="5134320" cy="176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3D6-C363-4937-A577-104DE026451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b6501"/>
                </a:solidFill>
                <a:latin typeface="Tahoma"/>
              </a:rPr>
              <a:t>Arc consistency algorithm AC-3</a:t>
            </a:r>
            <a:endParaRPr b="0" lang="en-US" sz="40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5559480"/>
            <a:ext cx="8650080" cy="5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complexity: 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rcRect l="16405" t="21878" r="13282" b="22917"/>
          <a:stretch/>
        </p:blipFill>
        <p:spPr>
          <a:xfrm>
            <a:off x="1295280" y="1371600"/>
            <a:ext cx="685800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FFB-5B04-4A67-AF93-A6C3B12B25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Local search for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ll-climbing, simulated annealing typically work with "complete" states, i.e., all variables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pply to CS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states with unsatisfi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perators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reassig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variable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 selection: randomly select any conflicted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selection by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min-conflicts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uristi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oose value that violates the fewest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, hill-climb with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total number of violated constrai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B79B-44F7-45A7-969E-EFF0FBB7F99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4-Queen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4 queens in 4 columns (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256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move queen in colum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Goal te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no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Evalu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(n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number of att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n random initial state, can solv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queens in almost constant time for arbitrary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high probability (e.g.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10,000,0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523880" y="3124080"/>
            <a:ext cx="5791320" cy="17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BBC2-569F-4A4D-9304-BCD9BE93295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SPs are a special kind of 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s defined by values of a fixed set of varia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oal test defined by constraints on variable val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cktracking = depth-first search with one variable assigned per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able ordering and value selection heuristics help significa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ward checking prevents assignments that guarantee later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aint propagation (e.g., arc consistency) does additional work to constrain values and detect inconsistenc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terative min-conflicts is usually effective in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A31-772F-4348-AE50-26C16979AD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4161960"/>
            <a:ext cx="8650080" cy="19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WA, NT, Q, NSW, V, SA, 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{red,green,blue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adjacent regions must have different col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W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NT, or (WA,NT) in {(red,green),(red,blue),(green,red), (green,blue),(blue,red),(blue,green)}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B57-90CB-4698-B26D-6322922C971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81440" cy="3124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Map-Coloring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4549320"/>
            <a:ext cx="8650080" cy="15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Solu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ssignments, e.g., WA = red, NT = green,Q = red,NSW = green,V = red,SA = blue,T = gre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3940-2819-4836-B31D-B191FA699E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Constraint graph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inary CSP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ach constraint relates two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straint graph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nodes are variables, arcs are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666880" y="2590920"/>
            <a:ext cx="3676680" cy="315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B9E-5D50-4CFF-A97F-A568BFCB22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SP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variables, domain size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O(d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te assignmen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Boolean CSPs, incl.~Boolean satisfiability (NP-complet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inite domai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gers, string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job scheduling, variables are start/end days for each jo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df70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eed a constraint language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+ 5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tartJob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start/end times for Hubble Space Telescope observ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near constraints solvable in polynomial time by linear programm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8B9D-AFE6-429E-A914-1CA4F26756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Varieties of constraints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U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a single variabl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gre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Bina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pairs of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S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44cad"/>
                </a:solidFill>
                <a:latin typeface="Tahoma"/>
              </a:rPr>
              <a:t>Higher-ord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constraints involve 3 or more variables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ryptarithmetic column cons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82B-B794-4231-B553-5FAF46C83C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b6501"/>
                </a:solidFill>
                <a:latin typeface="Tahoma"/>
              </a:rPr>
              <a:t>Example: Cryptarithmetic</a:t>
            </a:r>
            <a:endParaRPr b="0" lang="en-US" sz="4400" spc="-1" strike="noStrike">
              <a:solidFill>
                <a:srgbClr val="5b6501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095880" cy="22147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3076200"/>
            <a:ext cx="8570880" cy="305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Variabl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F T U W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 O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Domai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0,1,2,3,4,5,6,7,8,9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df70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4cad"/>
                </a:solidFill>
                <a:latin typeface="Tahoma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lldiff (F,T,U,W,R,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O = R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W + W = U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+ T + 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O + 10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·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b0d27e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,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Constraint Satisfa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172F-43BD-447C-A665-7D533C4DB0A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4 Feb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5:14:46Z</dcterms:created>
  <dc:creator>Min-Yen Kan</dc:creator>
  <dc:description/>
  <dc:language>en-US</dc:language>
  <cp:lastModifiedBy>Min-Yen Kan</cp:lastModifiedBy>
  <dcterms:modified xsi:type="dcterms:W3CDTF">2003-12-22T03:38:57Z</dcterms:modified>
  <cp:revision>5</cp:revision>
  <dc:subject/>
  <dc:title>Constraint Satisfaction Problems</dc:title>
</cp:coreProperties>
</file>