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5B5-BCCF-4D99-90B9-A8CBE74BD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85E-9BE0-4BEB-AC09-BC3D55EEA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CC48-81C9-4BF4-866C-B30B998F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469-2D22-456C-826D-CAF917B6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82D-5E5D-461B-88B6-CEE4AF28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4971-F903-4911-9A17-444D648A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45A2-9760-48E4-BAE5-4F635830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D04A-0EDB-46FF-8641-237507D3D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A31-778B-4F82-AC4C-8A6611A1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A8B-8BDD-41E8-B55F-62C59785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660-F240-48E2-A671-AF8E9CFF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350-74F7-41AE-A5A3-238CA1C7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B332-7FC5-45E7-8553-2E8B3B0F4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tion 1 –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choose the ordering M, J, A, B,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 |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J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 |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 |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 ,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B, A, J, M)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 | A,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243828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ing conditional independence is hard in noncausal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al models and conditional independence seem hardwired for human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is less compact: 1 + 2 + 4 + 2 + 4 = 13 number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352680" y="1371600"/>
            <a:ext cx="2743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yesian networks provide a natural representation for (causally induced) conditional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+ CPTs = compact representation of joint dis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 easy for domain experts to constr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, graphical notation for conditional independence assertions and hence for compact specification of full joint dis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nodes, one per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irected, acyclic graph (lin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directly influences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ditional distribution for each node given its par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Parents 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implest case, conditional distribution represented as 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ditional probability t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PT) giving the distribution 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each combination of parent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ology of network encodes conditional independence asser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dependent of the other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onditionally independent giv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2133720"/>
            <a:ext cx="441936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'm at work, neighbor John calls to say my alarm is ringing, but neighbor Mary doesn't call. Sometimes it's set off by minor earthquakes. Is there a burgl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ables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urgla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rthquak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a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JohnCal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ry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work topology reflects "causal" knowled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burglar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earthquake can set the alarm o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Mary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larm can cause John to 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777240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ct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PT for Boole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oolean parents ha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ws for the combinations of parent val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row requires one numb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tru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e number for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jus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1-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each variable has no more tha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ents, the complete network requires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n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Arial"/>
              </a:rPr>
              <a:t>·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rows linearl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vs. 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O(2</a:t>
            </a:r>
            <a:r>
              <a:rPr b="0" i="1" lang="en-US" sz="18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the full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burglary net, 1 + 1 + 4 + 2 + 2 = 10 numbers (vs.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 = 3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705720" y="1981080"/>
            <a:ext cx="1209600" cy="12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man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ll joint distribution is defined as the product of the local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 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m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j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m | a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a |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86600" y="2209680"/>
            <a:ext cx="1209600" cy="120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298680" y="22096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ing Bayesian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Choose an ordering of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 parents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uch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Parents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) = 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, ... X</a:t>
            </a:r>
            <a:r>
              <a:rPr b="0" i="1" lang="fr-FR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hoice of parents guarante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, … , 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=1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| Parents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y constr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chain r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67960" y="3733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7960" y="4114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16:38:09Z</dcterms:created>
  <dc:creator>Min-Yen Kan</dc:creator>
  <dc:description/>
  <dc:language>en-US</dc:language>
  <cp:lastModifiedBy>Min-Yen Kan</cp:lastModifiedBy>
  <dcterms:modified xsi:type="dcterms:W3CDTF">2003-12-18T03:06:00Z</dcterms:modified>
  <cp:revision>4</cp:revision>
  <dc:subject/>
  <dc:title>Bayesian networks </dc:title>
</cp:coreProperties>
</file>