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413C-1DD3-4C3B-8AD4-CAEE1E6E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3550-1AB6-4D19-ACA5-C5B8B9E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83E-04D7-4DE1-84B3-78EFDE59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4896-E8F7-44DA-9FF8-73D49BEA9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E3D1-CA57-4CB3-AA7C-D941BDE8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C995-928C-4AB2-93D1-8D24FC71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757-A72F-47DC-A713-7C092722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A03C-7C56-4E17-912A-0F1B7FC4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B0A-10B3-43A6-A057-3279C34B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A4F9-F4A8-4F35-BC02-2E2C5E8D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264-E14C-4B22-BE82-C39C35EC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97EE-7C1D-4424-B9FA-68793809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2667-9153-4328-A792-EC339B7F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mp.nus.edu.sg/~cs3243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NDATIONS OF ARTIFICIAL INTEL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Y2003/2004 Semes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: Chapter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n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g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n entity that perceives and 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urse is about designing rational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ly, an agent is a function from percept histories to a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P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ny given class of environments and tasks, we seek the agent (or class of agents) with the bes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veat: computational limitations make perfect rationality unachiev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bes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iven machin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I pre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osoph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, methods of reasoning, mind as physic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oundations of learning, languag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al representation and proof algorithm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ation, (un)decidability, (in)tractability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, decision the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osci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substrate for ment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log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enomena of perception and motor control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ing fast computer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theo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systems that maximize an objecti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over ti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guist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ledge representation, gram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ridged history of 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43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cCulloch &amp; Pitts: Boolean circuit model of br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's "Computing Machinery and Intelligenc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rtmouth meeting: "Artificial Intelligence" ado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2—6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, Ma, no hands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AI programs, including Samuel's check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, Newell &amp; Simon's Logic Theoris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ernter's Geometry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inson's complete algorithm for logical reaso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6—7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discovers computational complexity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 research almost disapp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69—7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development of knowledge-bas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0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n indus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6-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ural networks return to pop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87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 becomes a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-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mergence of intelligent ag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e of the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Blue defeated the reigning world chess champion Garry Kasparov in 199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d a mathematical conjecture (Robbins conjecture) unsolved for dec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hands across America (driving autonomously 98% of the time from Pittsburgh to San Dieg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1991 Gulf War, US forces deployed an AI logistics planning and scheduling program that involved up to 50,000 vehicles, cargo, and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's on-board autonomous planning program controlled the scheduling of operations for a spacecraf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rover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lves crossword puzzles better than most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32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rse home page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mp.nus.edu.sg/~cs324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LE for schedule, lecture notes, tutorials, assignment, grading, office hour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book: S. Russell and P. Norvi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tificial Intelligence: A Modern Approac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ntice Hall, 2003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econd E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cturer: Min-Yen Kan (S15 05-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ding: Class participation (10%), Programming assignment (15%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20%), Final exam (55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participation includes participation in both lectures and tutorials (attendance, asking and answering questions, presenting solutions to tutorial question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that attendance at every lecture and tutorial will be taken and constitutes part of the class participation gra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term test (in class, 1 hr) and final exam (2 hrs) are both open-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the 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rse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and Agents (chapters 1,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rch (chapters 3,4,5,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c (chapters 7,8,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(chapters 11,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ertainty (chapters 13,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(chapters 18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Language Processing (chapter 22,2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of AI fall into four catego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human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ng rational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xtbook advocates "acting rationally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2743200"/>
          <a:ext cx="7086600" cy="1295280"/>
        </p:xfrm>
        <a:graphic>
          <a:graphicData uri="http://schemas.openxmlformats.org/drawingml/2006/table">
            <a:tbl>
              <a:tblPr/>
              <a:tblGrid>
                <a:gridCol w="3352680"/>
                <a:gridCol w="37339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humanly: Turing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ing (1950) "Computing machinery and intelligence"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Can machines think?"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"Can machines behave intelligently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onal test for intelligent behavior: the Imitation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ed that by 2000, a machine might have a 30% chance of fooling a lay person for 5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cipated all major arguments against AI in following 50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ggested major components of AI: knowledge, reasoning, language understanding,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362320" y="2590920"/>
            <a:ext cx="394812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humanly: cognitive 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 "cognitive revolution": information-processing psych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cientific theories of internal activities of the b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How to validate? Requi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Predicting and testing behavior of human subjects (top-d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2) Direct identification from neurological data (bottom-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approaches (roughly, Cognitive Science and Cognitive Neuroscienc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now distinct from 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: "laws of thought"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stotle: what are correct arguments/thought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Greek schools developed various form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les of deriv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thoughts; may or may not have proceeded to the idea of mech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line through mathematics and philosophy to modern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ll intelligent behavior is mediated by logical delib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urpose of thinking? What thoughts should I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ng rationally: rational ag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ation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havior: doing the right 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ght thing: that which is expected to maximize goal achievement, given the availab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n't necessarily involve thinking – e.g., blinking reflex – but  thinking should be in the service of rational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7T02:04:52Z</dcterms:created>
  <dc:creator>Min-Yen Kan</dc:creator>
  <dc:description/>
  <dc:language>en-US</dc:language>
  <cp:lastModifiedBy>Min-Yen Kan</cp:lastModifiedBy>
  <dcterms:modified xsi:type="dcterms:W3CDTF">2003-12-17T02:52:26Z</dcterms:modified>
  <cp:revision>4</cp:revision>
  <dc:subject/>
  <dc:title>Slide 1</dc:title>
</cp:coreProperties>
</file>