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55497-B3CA-4B1A-A770-DAB83E38D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5C165-F224-4937-B02D-37728B7E1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EB189-F636-4A12-BEA9-1B5AB0797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1D335-2824-4293-9E6E-4C6509BAB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D6C6B-72B1-4A97-9FF1-2A39962D3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E92C8-1933-4140-89FD-CD3A5D971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97DE4-E64B-46A9-BA00-DF3693C95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592BD-7E66-42D0-912D-BFE169468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10F1A-8292-410B-90AC-3FE9B6D27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81346-B9F9-4D76-A590-F0F718A9B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B2169-0B73-4456-9A91-360947613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E70BF-370A-43E7-B7CE-C067A4AAB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95605-7D59-41A9-8469-78F8BF33F6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arning from Observation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pter 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tion 1 –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ductive learning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truct/adjust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h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agree with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n training 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onsist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it agrees with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n all exampl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, curve fit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209680" y="3200400"/>
            <a:ext cx="3429000" cy="295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209680" y="2819520"/>
            <a:ext cx="3429000" cy="29541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ductive learning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truct/adjust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h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agree with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n training 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onsist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it agrees with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n all exampl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, curve fit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209680" y="2819520"/>
            <a:ext cx="3429000" cy="295416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ductive learning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truct/adjust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h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agree with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n training 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onsist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it agrees with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n all exampl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, curve fit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kham’s razor: prefer the simplest hypothesis consistent with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arning decision tre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lem: decide whether to wait for a table at a restaurant, based on the following attribut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ternate: is there an alternative restaurant nearb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r: is there a comfortable bar area to wait i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i/Sat: is today Friday or Saturda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ungry: are we hungr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trons: number of people in the restaurant (None, Some, Ful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ce: price range ($, $$, $$$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ining: is it raining outsid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ervation: have we made a reserv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e: kind of restaurant (French, Italian, Thai, Burg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itEstimate: estimated waiting time (0-10, 10-30, 30-60, &gt;6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ttribute-based represent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s described by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attribute value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Boolean, discrete, continuou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, situations where I will/won't wait for a tab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lassific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f examples is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ositiv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T) or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negativ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rcRect l="53906" t="29168" r="9766" b="19791"/>
          <a:stretch/>
        </p:blipFill>
        <p:spPr>
          <a:xfrm>
            <a:off x="1447920" y="2362320"/>
            <a:ext cx="6095880" cy="32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600200" y="2286000"/>
            <a:ext cx="5791320" cy="415620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cision tre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possible representation for hypothe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, here is the “true” tree for deciding whether to wai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ressiven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cision trees can express any function of the input attribu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, for Boolean functions, truth table row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th to leaf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ivially, there is a consistent decision tree for any training set with one path to leaf for each example (unles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nondeterministic i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but it probably won't generalize to new exam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fer to find more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ompac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ecision tre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523880" y="2438280"/>
            <a:ext cx="5791320" cy="19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 spa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0099"/>
                </a:solidFill>
                <a:uFillTx/>
                <a:latin typeface="Arial"/>
              </a:rPr>
              <a:t>How many distinct decision trees with </a:t>
            </a:r>
            <a:r>
              <a:rPr b="0" i="1" lang="en-US" sz="2000" spc="-1" strike="noStrike" u="sng">
                <a:solidFill>
                  <a:srgbClr val="cc0099"/>
                </a:solidFill>
                <a:uFillTx/>
                <a:latin typeface="Arial"/>
              </a:rPr>
              <a:t>n</a:t>
            </a:r>
            <a:r>
              <a:rPr b="0" lang="en-US" sz="2000" spc="-1" strike="noStrike" u="sng">
                <a:solidFill>
                  <a:srgbClr val="cc0099"/>
                </a:solidFill>
                <a:uFillTx/>
                <a:latin typeface="Arial"/>
              </a:rPr>
              <a:t> Boolean attribut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number of Boolean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number of distinct truth tables with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ows =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 baseline="60000">
                <a:solidFill>
                  <a:srgbClr val="0000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, with 6 Boolean attributes, there are 18,446,744,073,709,551,616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othesis spa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0099"/>
                </a:solidFill>
                <a:uFillTx/>
                <a:latin typeface="Arial"/>
              </a:rPr>
              <a:t>How many distinct decision trees with </a:t>
            </a:r>
            <a:r>
              <a:rPr b="0" i="1" lang="en-US" sz="2000" spc="-1" strike="noStrike" u="sng">
                <a:solidFill>
                  <a:srgbClr val="cc0099"/>
                </a:solidFill>
                <a:uFillTx/>
                <a:latin typeface="Arial"/>
              </a:rPr>
              <a:t>n</a:t>
            </a:r>
            <a:r>
              <a:rPr b="0" lang="en-US" sz="2000" spc="-1" strike="noStrike" u="sng">
                <a:solidFill>
                  <a:srgbClr val="cc0099"/>
                </a:solidFill>
                <a:uFillTx/>
                <a:latin typeface="Arial"/>
              </a:rPr>
              <a:t> Boolean attribut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number of Boolean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number of distinct truth tables with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ows =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 baseline="60000">
                <a:solidFill>
                  <a:srgbClr val="0000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, with 6 Boolean attributes, there are 18,446,744,073,709,551,616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0099"/>
                </a:solidFill>
                <a:uFillTx/>
                <a:latin typeface="Arial"/>
              </a:rPr>
              <a:t>How many purely conjunctive hypotheses (e.g., </a:t>
            </a:r>
            <a:r>
              <a:rPr b="0" i="1" lang="en-US" sz="2000" spc="-1" strike="noStrike" u="sng">
                <a:solidFill>
                  <a:srgbClr val="cc0099"/>
                </a:solidFill>
                <a:uFillTx/>
                <a:latin typeface="Arial"/>
              </a:rPr>
              <a:t>Hungry </a:t>
            </a:r>
            <a:r>
              <a:rPr b="0" lang="en-US" sz="2000" spc="-1" strike="noStrike" u="sng">
                <a:solidFill>
                  <a:srgbClr val="cc0099"/>
                </a:solidFill>
                <a:uFillTx/>
                <a:latin typeface="Symbol"/>
                <a:ea typeface="Symbol"/>
              </a:rPr>
              <a:t></a:t>
            </a:r>
            <a:r>
              <a:rPr b="0" lang="en-US" sz="2000" spc="-1" strike="noStrike" u="sng">
                <a:solidFill>
                  <a:srgbClr val="cc0099"/>
                </a:solidFill>
                <a:uFillTx/>
                <a:latin typeface="Arial"/>
              </a:rPr>
              <a:t> </a:t>
            </a:r>
            <a:r>
              <a:rPr b="0" lang="en-US" sz="2000" spc="-1" strike="noStrike" u="sng">
                <a:solidFill>
                  <a:srgbClr val="cc0099"/>
                </a:solidFill>
                <a:uFillTx/>
                <a:latin typeface="Symbol"/>
                <a:ea typeface="Symbol"/>
              </a:rPr>
              <a:t></a:t>
            </a:r>
            <a:r>
              <a:rPr b="0" i="1" lang="en-US" sz="2000" spc="-1" strike="noStrike" u="sng">
                <a:solidFill>
                  <a:srgbClr val="cc0099"/>
                </a:solidFill>
                <a:uFillTx/>
                <a:latin typeface="Arial"/>
              </a:rPr>
              <a:t>Rain</a:t>
            </a:r>
            <a:r>
              <a:rPr b="0" lang="en-US" sz="2000" spc="-1" strike="noStrike" u="sng">
                <a:solidFill>
                  <a:srgbClr val="cc0099"/>
                </a:solidFill>
                <a:uFillTx/>
                <a:latin typeface="Arial"/>
              </a:rPr>
              <a:t>)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attribute can be in (positive), in (negative), or o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istinct conjunctive hypothe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re expressive hypothesis sp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s chance that target function can be expres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s number of hypotheses consistent with training 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y get worse predi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cision tree lear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im: find a small tree consistent with the training examp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a: (recursively) choose "most significant" attribute as root of (sub)tr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rcRect l="53906" t="23960" r="8985" b="27086"/>
          <a:stretch/>
        </p:blipFill>
        <p:spPr>
          <a:xfrm>
            <a:off x="838080" y="2743200"/>
            <a:ext cx="723924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rning ag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uctive lea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ision tree lea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oosing an attribu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a: a good attribute splits the examples into subsets that are (ideally) "all positive" or "all negative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atrons?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better cho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609480" y="2819520"/>
            <a:ext cx="7620120" cy="18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ing information the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implement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hoose-Attribu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 the DTL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ormation Content (Entropy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(P(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, … , P(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) =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=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P(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log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(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a training set containin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ositive examples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egative examp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1295280" y="4648320"/>
                <a:ext cx="6400800" cy="80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f>
                      <m:num>
                        <m:r>
                          <m:t xml:space="preserve">p</m:t>
                        </m:r>
                      </m:num>
                      <m:den>
                        <m:r>
                          <m:t xml:space="preserve">p</m:t>
                        </m:r>
                        <m:r>
                          <m:t xml:space="preserve">+</m:t>
                        </m:r>
                        <m:r>
                          <m:t xml:space="preserve">n</m:t>
                        </m:r>
                      </m:den>
                    </m:f>
                    <m:r>
                      <m:t xml:space="preserve">,</m:t>
                    </m:r>
                    <m:f>
                      <m:num>
                        <m:r>
                          <m:t xml:space="preserve">n</m:t>
                        </m:r>
                      </m:num>
                      <m:den>
                        <m:r>
                          <m:t xml:space="preserve">p</m:t>
                        </m:r>
                        <m:r>
                          <m:t xml:space="preserve">+</m:t>
                        </m:r>
                        <m:r>
                          <m:t xml:space="preserve">n</m:t>
                        </m:r>
                      </m:den>
                    </m:f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p</m:t>
                        </m:r>
                      </m:num>
                      <m:den>
                        <m:r>
                          <m:t xml:space="preserve">p</m:t>
                        </m:r>
                        <m:r>
                          <m:t xml:space="preserve">+</m:t>
                        </m:r>
                        <m:r>
                          <m:t xml:space="preserve">n</m:t>
                        </m:r>
                      </m:den>
                    </m:f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f>
                      <m:num>
                        <m:r>
                          <m:t xml:space="preserve">p</m:t>
                        </m:r>
                      </m:num>
                      <m:den>
                        <m:r>
                          <m:t xml:space="preserve">p</m:t>
                        </m:r>
                        <m:r>
                          <m:t xml:space="preserve">+</m:t>
                        </m:r>
                        <m:r>
                          <m:t xml:space="preserve">n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n</m:t>
                        </m:r>
                      </m:num>
                      <m:den>
                        <m:r>
                          <m:t xml:space="preserve">p</m:t>
                        </m:r>
                        <m:r>
                          <m:t xml:space="preserve">+</m:t>
                        </m:r>
                        <m:r>
                          <m:t xml:space="preserve">n</m:t>
                        </m:r>
                      </m:den>
                    </m:f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f>
                      <m:num>
                        <m:r>
                          <m:t xml:space="preserve">n</m:t>
                        </m:r>
                      </m:num>
                      <m:den>
                        <m:r>
                          <m:t xml:space="preserve">p</m:t>
                        </m:r>
                        <m:r>
                          <m:t xml:space="preserve">+</m:t>
                        </m:r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formation ga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hosen attribut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ivides the training set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to subset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… 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Monotype Corsiva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ccording to their values for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s </a:t>
            </a:r>
            <a:r>
              <a:rPr b="0" i="1" lang="en-US" sz="2400" spc="-1" strike="noStrike">
                <a:solidFill>
                  <a:srgbClr val="000000"/>
                </a:solidFill>
                <a:latin typeface="Monotype Corsiva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istinct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ormation Gain (IG) or reduction in entropy from the attribute te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oose the attribute with the largest I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1371600" y="2743200"/>
                <a:ext cx="5715000" cy="93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emainder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v</m:t>
                        </m:r>
                      </m:sup>
                      <m:e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+</m:t>
                            </m:r>
                            <m:r>
                              <m:t xml:space="preserve">n</m:t>
                            </m:r>
                          </m:den>
                        </m:f>
                        <m:r>
                          <m:t xml:space="preserve">I</m:t>
                        </m:r>
                        <m:r>
                          <m:t xml:space="preserve">(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4419720"/>
                <a:ext cx="5867640" cy="98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G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I</m:t>
                    </m:r>
                    <m:r>
                      <m:t xml:space="preserve">(</m:t>
                    </m:r>
                    <m:f>
                      <m:num>
                        <m:r>
                          <m:t xml:space="preserve">p</m:t>
                        </m:r>
                      </m:num>
                      <m:den>
                        <m:r>
                          <m:t xml:space="preserve">p</m:t>
                        </m:r>
                        <m:r>
                          <m:t xml:space="preserve">+</m:t>
                        </m:r>
                        <m:r>
                          <m:t xml:space="preserve">n</m:t>
                        </m:r>
                      </m:den>
                    </m:f>
                    <m:r>
                      <m:t xml:space="preserve">,</m:t>
                    </m:r>
                    <m:f>
                      <m:num>
                        <m:r>
                          <m:t xml:space="preserve">n</m:t>
                        </m:r>
                      </m:num>
                      <m:den>
                        <m:r>
                          <m:t xml:space="preserve">p</m:t>
                        </m:r>
                        <m:r>
                          <m:t xml:space="preserve">+</m:t>
                        </m:r>
                        <m:r>
                          <m:t xml:space="preserve">n</m:t>
                        </m:r>
                      </m:den>
                    </m:f>
                    <m:r>
                      <m:t xml:space="preserve">)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remainder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formation ga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the training set, </a:t>
            </a:r>
            <a:r>
              <a:rPr b="0" i="1" lang="en-US" sz="2000" spc="-1" strike="noStrike">
                <a:solidFill>
                  <a:srgbClr val="000000"/>
                </a:solidFill>
                <a:latin typeface="Monotype Corsiva"/>
              </a:rPr>
              <a:t>p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2000" spc="-1" strike="noStrike">
                <a:solidFill>
                  <a:srgbClr val="000000"/>
                </a:solidFill>
                <a:latin typeface="Monotype Corsiva"/>
              </a:rPr>
              <a:t>n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= 6, I(6/12, 6/12) = 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ider the attribute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atron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yp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and others too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atron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has the highest IG of all attributes and so is chosen by the DTL algorithm as the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762120" y="2895480"/>
                <a:ext cx="7467480" cy="136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G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Patrons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[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den>
                        </m:f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0,1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den>
                        </m:f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1,0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6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den>
                        </m:f>
                        <m:r>
                          <m:t xml:space="preserve">I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]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541</m:t>
                        </m:r>
                        <m:r>
                          <m:rPr>
                            <m:lit/>
                            <m:nor/>
                          </m:rPr>
                          <m:t xml:space="preserve"> bits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IG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Type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[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den>
                        </m:f>
                        <m:r>
                          <m:t xml:space="preserve">I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den>
                        </m:f>
                        <m:r>
                          <m:t xml:space="preserve">I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den>
                        </m:f>
                        <m:r>
                          <m:t xml:space="preserve">I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den>
                        </m:f>
                        <m:r>
                          <m:t xml:space="preserve">I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]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 bit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contd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ision tree learned from the 12 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stantially simpler than “true” tree---a more complex hypothesis isn’t justified by small amount of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362320" y="1981080"/>
            <a:ext cx="4038480" cy="32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447920" y="3033720"/>
            <a:ext cx="5105160" cy="3571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formance measur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do we know tha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h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≈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theorems of computational/statistical learning the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y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n a new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est s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f exam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use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sam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tribution over example space as training s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Learning curv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% correct on test set as a function of training set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rning needed for unknown environments, lazy design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rning agent = performance element + learning el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supervised learning, the aim is to find a simple hypothesis approximately consistent with training examp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ision tree learning using information ga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rning performance = prediction accuracy measured on test 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ar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rning is essential for unknown environment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.e., when designer lacks omnisc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rning is useful as a system construction method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.e., expose the agent to reality rather than trying to write it d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rning modifies the agent's decision mechanisms to improve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arning ag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066680" y="1371600"/>
            <a:ext cx="7315200" cy="51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arning el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ign of a learning element is affected 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ch components of the performance element are to be lear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feedback is available to learn these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representation is used for the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e of feedback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Supervised learn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correct answers for each ex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Unsupervised learn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correct answers not gi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Reinforcement learn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occasional rew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ductive lear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est form: learn a function from exa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arget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exampl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a pair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(x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lem: find 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hypothesi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ch tha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h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≈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iven a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train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examp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his is a highly simplified model of real learn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gnores prior knowled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umes examples are giv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ductive learning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truct/adjust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h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agree with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n training 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onsist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it agrees with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n all exampl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, curve fit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209680" y="3200400"/>
            <a:ext cx="3810240" cy="29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ductive learning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truct/adjust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h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agree with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n training 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onsist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it agrees with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n all exampl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, curve fit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209680" y="3200400"/>
            <a:ext cx="381024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ductive learning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truct/adjust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h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agree with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n training 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onsist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it agrees with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n all exampl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, curve fit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209680" y="3200400"/>
            <a:ext cx="381024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4T06:34:20Z</dcterms:created>
  <dc:creator>Min-Yen Kan</dc:creator>
  <dc:description/>
  <dc:language>en-US</dc:language>
  <cp:lastModifiedBy>Min-Yen Kan</cp:lastModifiedBy>
  <dcterms:modified xsi:type="dcterms:W3CDTF">2003-12-31T02:26:21Z</dcterms:modified>
  <cp:revision>5</cp:revision>
  <dc:subject/>
  <dc:title>Learning from Observations </dc:title>
</cp:coreProperties>
</file>